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E904-083B-42FF-A482-FE9A61DFE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843E-E76A-4174-B1FA-087E07CB8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F936-5212-4A75-BBF6-3D77BE6B7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F7CD-C3EF-4231-A11C-48F69736D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4267-E390-489B-B624-A66E89F2D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26A3-CC41-474F-8889-D35010C2A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4EAA-E8C2-4147-A270-2D6DE4AC5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D17F-EC58-4AC4-87F0-841744DE1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25A4-AEAB-4A90-8C37-1DBCCE97B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1309-D3EF-4A69-9B06-AA6231296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E1BB-2C79-41F4-9E06-F2F90C20A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D864-0EBC-4832-8650-3B57ED5E8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6807-AFBC-4759-93C7-A97362FDE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B1B4-B74F-436E-9119-CA8FA838D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E36C-FF78-4175-8CBD-073C54A71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F91B-5411-463B-B300-EA81F4064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3A6E-BE12-4CA2-A2E0-8FA9051E6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E1FD-A35C-4636-87D5-BA2C54D40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4669-06F1-4A6F-A19A-9E6FC6523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6BEB-A56C-4EC7-90FA-E4F35D24D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EFB8-D249-4398-AC36-2D1E4EC988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4A88-8956-4703-9751-B5DD219C2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4C09-CFCB-4320-B3C2-543EF7C92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5ABA-3927-40F0-BBEC-11219A41C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10A-3D03-4DE1-B0F0-0DD4365D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302-F2B6-446A-9E77-1DB78094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73A-AA33-4A3A-BE8C-2F04CF71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099-E546-4C88-8271-81D7065F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A58-38BE-422E-8B9C-86C24C73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0DA-B401-42B7-A9F8-1D72ECFA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F37-4196-4090-AD9B-9A202E6D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460-6FA6-484E-9AC2-07A986C3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911-B89A-4AC5-8EF2-5667A147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5C3-2949-4725-95B4-4301A3F1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987-9206-45FF-AE89-37544306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792-1502-4158-84B4-3193EA5A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D7ED-8AA4-438D-8D8D-187952158F8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anal Ortamda Suç Teşkil Eden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Akışı Tür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Session 1.4.2/Hour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Paravan şirketler halihazırda bir kara para aklama tekniği olarak kullanılmaktad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u para aklama tekniği sanal dünyada da, öncelikli olarak işlemleri daha meşru gösterme gayretiyle kullanılmakta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Paravan şirketlere aktarılan paralar genelde bireysel kuryelere veya bunlar tarafından aktarılan miktarlardan daha yüksek ol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zet: Paravan Şir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van şirketler hiçbir ticari faaliyeti, malvarlığı veya yükümlülüğü bulunmayan, sadece banka hesabına sahip olmak amacıyla yaratılmış şirketlerdi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van şirketler (veya bunların banka hesapları) genellikle öncül suç mahallinin dışındaki yabancı ülkelerde bulunu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van şirketler, ödemeyi yapan bankadan yapılan havaleye meşru bir görünüm kata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anal suçlardan elde edilen gelirler bakımından paravan şirket kullanımı başka ne gibi güçlükler yaratıy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 Tipolojisi (Örnek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uçlu bir paravan şirket kur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uçlu yabancı bir ülkede bu paravan şirket adına bir banka hesabı aç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uçlu hileli bir faaliyette bulunur ve mağdurların hesaplarından paravan şirketin banka hesabına para aktar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Paravan şirketleri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Paravan şirketler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lerden Gelen Paraların/Paralara Dondurulması,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Paravan şirketlerden gelen paraların/para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ÖN ÖDEMELİ KARTL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Değerin ödeme kartıyla önceden ilişkilendirilmesine imkân sağla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İki türü vardı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apalı ön ödemeli kartlar: sadece belirli bir şirket veya mağazada kullanılabilir (örn. hediye kartları) ve anonim olarak satın alıp kullanılab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çık ön ödemeli kartlar: bir banka, kredi kartı veya başkaca bir finans kuruluşu tarafından düzenlenir. Başka herhangi bir ödeme kartı gibi kullanılab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Kontörlü cep telefonu kartları ve ön ödemeli cep telefonları açısından da aynı tipoloji geçerlid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çlu örneğin kötü amaçlı bankacılık yazılımı yoluyla para elde ed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lar bir para kuryesine aktarılı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Kurye parayı nakit olarak çeker ve bunu ön ödemeli kartlar satın almakta kullanı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Daha sonra bu kartlar kullanılır veya satılır. Satılırsa, genellikle üzerinde yazılı olan değerden düşüğe satılı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Oturum Hedef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üzerinden satın alı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Ön Ödemeli Kart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teki kumar ve elektronik ticaret platform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Ön Ödemeli Kartları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Ön ödemeli kartları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ların/Kartlara Dondurulması,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Ön ödemeli kartların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İNTERNETTEKİ KUMAR platformlar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İnternet çeşitli kumar türlerine imkân sağ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Paralar sisteme genelde geleneksel bankacılık sektörü aracılığıyla giriş/çıkış yapar (örn. havale, kredi/banka kartı vb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İnternetteki kumar sitelerinin hukuki statüsü ve bunlara ilişkin düzenlemeler değişkenlik arz etmekte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Tipolojisi (Örnek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ların ve suç ortaklarının elinde, paraya çevrilmek üzere birçok çalıntı kredi kartı bulunu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 ön ödemeli bir karta (veya aklanan kara paraların yüklenebileceği başka bir karta) sahiptir ve suç ortaklarında da çalıntı kredi kartları bulunu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lar ve suç ortakları kumar platformunda oturum açar ve parayı kendi kumar hesaplarına aktarırl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lar ve suç ortakları (örneğin) hep birlikte bir poker salonuna girerl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Ortaklar bilerek suçluya yenilirl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zançlar suçlunun internet platformundaki kumar hesabına aktar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 paraları kendisinde bulunan ödeme kartına aktarır, ardından da bu kartı kullanır veya sat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nı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teki kumar platformlarını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27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nı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teki kumar platformlarını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ndan Elde Edilen Paraların/Paralara Dondurulması,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teki kumar platformlarından elde edilen paraların/para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üzerinden satın al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Ön Ödemeli Kart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teki kumar ve elektronik ticaret platform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İNTERNET ÜZERİNDEN SATIN AL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3530160" y="4500720"/>
            <a:ext cx="21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l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ihlal edilen bir kartın verilerine veya bankacılık bilgilerine erişim elde ed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ihlal edilen bu bilgileri kullanarak mal (örn. uçak bileti) satın alı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bu uçak biletlerini internetteki bir açık arttırma sitesinde satışa çıkarı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Açık arttırmayı biri kazanır ve ödemeyi suçluya gönder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da uçak biletlerini açık arttırmayı kazanan kişiye gönder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üzerinden satın alımları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atın Alımlar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üzerinden satın alımların tespiti/faaliyet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ların/Alımlara Dondurulması, 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üzerinden satın alımların/alım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PARAVAN ŞİRKET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Hande Güner</cp:lastModifiedBy>
  <cp:lastPrinted>2016-05-18T07:38:13Z</cp:lastPrinted>
  <dcterms:modified xsi:type="dcterms:W3CDTF">2017-11-09T18:26:41Z</dcterms:modified>
  <cp:revision>374</cp:revision>
  <dc:subject/>
  <dc:title>PowerPoint Presentation</dc:title>
</cp:coreProperties>
</file>